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E63-727D-46EE-88AA-24AFD130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3FD-803E-4632-962F-E71F6615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CD3-D10F-40B6-8D1F-286D4CCB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E5B-1F32-47F5-B73F-C6884D6A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511-4D33-4719-A549-1A3F8F72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A6B-BEB1-4213-A724-34AAE78B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BED-1219-4C56-926F-B6505FBA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398-5B38-4FE2-9CC9-876B3158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EE4-BF42-4B93-B93F-C91BF7A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587-55B4-46F9-BEC3-35B7455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CE9-9EB9-4AFA-873F-8034F4F9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843-AD0D-4186-8B9D-160B1151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1169-648B-47D1-9B58-09A120E84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yler Henni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magesCABR2B8K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685800" y="380880"/>
            <a:ext cx="7238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magesCA5DFVV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80880" y="1066680"/>
            <a:ext cx="8382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hilosho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59840" cy="6845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380880" y="533520"/>
            <a:ext cx="815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04920" y="0"/>
            <a:ext cx="8153280" cy="66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area of land nearly surrounded b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0" y="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r between Athens and Spar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untitled.bmp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0" y="0"/>
            <a:ext cx="914400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0" y="0"/>
            <a:ext cx="914400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eltered place along the coas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4" descr="imagesCAAJ38S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imagesCARRVMRE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838080" y="4572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awmaking place where people voted  on issues that helped their c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imagesCAM7KD12.jpg"/>
          <p:cNvPicPr/>
          <p:nvPr/>
        </p:nvPicPr>
        <p:blipFill>
          <a:blip r:embed="rId1"/>
          <a:stretch/>
        </p:blipFill>
        <p:spPr>
          <a:xfrm>
            <a:off x="1143000" y="36360"/>
            <a:ext cx="6705720" cy="6821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457200" y="304920"/>
            <a:ext cx="838188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tiz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erson that has certain rights and responsibilities to his or h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imagesCAOGYO30.jpg"/>
          <p:cNvPicPr/>
          <p:nvPr/>
        </p:nvPicPr>
        <p:blipFill>
          <a:blip r:embed="rId1"/>
          <a:stretch/>
        </p:blipFill>
        <p:spPr>
          <a:xfrm>
            <a:off x="-15840" y="12600"/>
            <a:ext cx="9159840" cy="68454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533520" y="380880"/>
            <a:ext cx="81532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gorupe of people that lived apart from greece but kept economic ties with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1143000" y="457200"/>
            <a:ext cx="72388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moc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orm of government where people vote to mak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imagesCAVCHQJU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-304920" y="0"/>
            <a:ext cx="9448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hear evidence and make decisions in the court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imagesCAQ44806.jpg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457200" y="380880"/>
            <a:ext cx="784872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8T15:50:43Z</dcterms:modified>
  <cp:revision>94</cp:revision>
  <dc:subject/>
  <dc:title>Ancient Greece</dc:title>
</cp:coreProperties>
</file>